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EA2-FAAA-4EE1-98C4-33D7DB83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6A2-8315-486D-8480-88A4820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371-D508-47F2-99C7-598FA819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F24-6DE4-481B-9566-1D6B3CAD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48AA-FBDC-4321-9EAE-9FB1CCB1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5CB-6336-496E-B3D3-02361103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5CB-ECE1-469A-8AD6-1686DF91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006C-59BF-462E-A967-E6F7CF1E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39D-A9F0-4AB4-96AB-02E7E9F4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FAE-4FD9-465B-B68F-F26311E0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E60-B107-4879-8785-69CEF0F1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CB5C-D6A5-42A9-9266-B5A44A8A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E187-203A-42FD-BD44-D7CF5EE57B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04920" y="685800"/>
            <a:ext cx="3429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her _a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ents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thers 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friend 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sister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685800" y="228600"/>
            <a:ext cx="83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Match the words with the people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286000" y="1219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32004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8280" y="2209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286000" y="16765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85800" y="41148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057400" y="45720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838080" y="55627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981080" y="597384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2160" y="228600"/>
            <a:ext cx="65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9933ff"/>
                </a:solidFill>
                <a:latin typeface="Arial"/>
              </a:rPr>
              <a:t>1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~9Y$W8WH2C%AWY(X6$H}FPD"/>
          <p:cNvPicPr/>
          <p:nvPr/>
        </p:nvPicPr>
        <p:blipFill>
          <a:blip r:embed="rId1"/>
          <a:stretch/>
        </p:blipFill>
        <p:spPr>
          <a:xfrm>
            <a:off x="3200400" y="914400"/>
            <a:ext cx="5486400" cy="525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2743200" y="1522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Listen and circle the words with the people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914400"/>
            <a:ext cx="36576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 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 frie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istening2"/>
          <p:cNvPicPr/>
          <p:nvPr/>
        </p:nvPicPr>
        <p:blipFill>
          <a:blip r:embed="rId1"/>
          <a:stretch/>
        </p:blipFill>
        <p:spPr>
          <a:xfrm>
            <a:off x="304920" y="76320"/>
            <a:ext cx="2209680" cy="89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~9Y$W8WH2C%AWY(X6$H}FPD"/>
          <p:cNvPicPr/>
          <p:nvPr/>
        </p:nvPicPr>
        <p:blipFill>
          <a:blip r:embed="rId2"/>
          <a:stretch/>
        </p:blipFill>
        <p:spPr>
          <a:xfrm>
            <a:off x="3657600" y="1523880"/>
            <a:ext cx="4791240" cy="4953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la8"/>
          <p:cNvPicPr/>
          <p:nvPr/>
        </p:nvPicPr>
        <p:blipFill>
          <a:blip r:embed="rId3"/>
          <a:stretch/>
        </p:blipFill>
        <p:spPr>
          <a:xfrm>
            <a:off x="7315200" y="609480"/>
            <a:ext cx="60012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1143000" y="2362320"/>
            <a:ext cx="15238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1143000" y="2971800"/>
            <a:ext cx="167652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990720" y="6172200"/>
            <a:ext cx="137160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0"/>
          <p:cNvSpPr/>
          <p:nvPr/>
        </p:nvSpPr>
        <p:spPr>
          <a:xfrm>
            <a:off x="990720" y="5562720"/>
            <a:ext cx="26668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533520" y="762120"/>
            <a:ext cx="8076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ole-play the conversation in 1a and tal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 the other people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277800" y="152280"/>
            <a:ext cx="21117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Pair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~9Y$W8WH2C%AWY(X6$H}FPD"/>
          <p:cNvPicPr/>
          <p:nvPr/>
        </p:nvPicPr>
        <p:blipFill>
          <a:blip r:embed="rId1"/>
          <a:stretch/>
        </p:blipFill>
        <p:spPr>
          <a:xfrm>
            <a:off x="2133720" y="2209680"/>
            <a:ext cx="4952880" cy="428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152280" y="3157560"/>
            <a:ext cx="8850600" cy="28400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457200" y="3429000"/>
            <a:ext cx="83059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ents  mother     father      sister      br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ndmother   grandfather   friend 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609480" y="1801800"/>
            <a:ext cx="7620120" cy="7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2a Listen and circle the words you hea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685800" y="685800"/>
            <a:ext cx="3886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Bookman Old Style"/>
              </a:rPr>
              <a:t>Listening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69" name="Picture 6" descr="la8"/>
          <p:cNvPicPr/>
          <p:nvPr/>
        </p:nvPicPr>
        <p:blipFill>
          <a:blip r:embed="rId1"/>
          <a:stretch/>
        </p:blipFill>
        <p:spPr>
          <a:xfrm>
            <a:off x="8229600" y="19051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80880" y="3581280"/>
            <a:ext cx="15242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1905120" y="3581280"/>
            <a:ext cx="1523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9"/>
          <p:cNvSpPr/>
          <p:nvPr/>
        </p:nvSpPr>
        <p:spPr>
          <a:xfrm>
            <a:off x="3581280" y="3581280"/>
            <a:ext cx="152424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5257800" y="3581280"/>
            <a:ext cx="1523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1"/>
          <p:cNvSpPr/>
          <p:nvPr/>
        </p:nvSpPr>
        <p:spPr>
          <a:xfrm>
            <a:off x="6934320" y="3581280"/>
            <a:ext cx="1523880" cy="533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380880" y="4876920"/>
            <a:ext cx="266724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457200" y="5194440"/>
            <a:ext cx="84582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Jenny ____      2. Jack ____   3. Tom _____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Bob ____          5. Linda ____ 6. Mary 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04920" y="152280"/>
            <a:ext cx="7696080" cy="13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</a:rPr>
              <a:t>2b. Listen and match the names with the people in the pictur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8-1"/>
          <p:cNvPicPr/>
          <p:nvPr/>
        </p:nvPicPr>
        <p:blipFill>
          <a:blip r:embed="rId1"/>
          <a:stretch/>
        </p:blipFill>
        <p:spPr>
          <a:xfrm>
            <a:off x="1523880" y="1523880"/>
            <a:ext cx="5181840" cy="3573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la8"/>
          <p:cNvPicPr/>
          <p:nvPr/>
        </p:nvPicPr>
        <p:blipFill>
          <a:blip r:embed="rId2"/>
          <a:stretch/>
        </p:blipFill>
        <p:spPr>
          <a:xfrm>
            <a:off x="6781680" y="990720"/>
            <a:ext cx="600120" cy="761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286000" y="5364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952880" y="5257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762012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905120" y="6019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105520" y="5943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7848720" y="5943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3"/>
          <p:cNvSpPr/>
          <p:nvPr/>
        </p:nvSpPr>
        <p:spPr>
          <a:xfrm>
            <a:off x="990720" y="2984400"/>
            <a:ext cx="71625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c. Ask and answer questions about the photo in 2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2895480" y="1905120"/>
            <a:ext cx="2743200" cy="76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Book Antiqua"/>
              </a:rPr>
              <a:t>Pairwork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Book Antiqua"/>
              <a:ea typeface="Book Antiqua"/>
            </a:endParaRPr>
          </a:p>
        </p:txBody>
      </p:sp>
    </p:spTree>
  </p:cSld>
  <p:transition>
    <p:wheel spokes="1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8-3"/>
          <p:cNvPicPr/>
          <p:nvPr/>
        </p:nvPicPr>
        <p:blipFill>
          <a:blip r:embed="rId1"/>
          <a:stretch/>
        </p:blipFill>
        <p:spPr>
          <a:xfrm>
            <a:off x="2362320" y="2057400"/>
            <a:ext cx="4495680" cy="30891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3"/>
          <p:cNvSpPr/>
          <p:nvPr/>
        </p:nvSpPr>
        <p:spPr>
          <a:xfrm>
            <a:off x="3352680" y="5638680"/>
            <a:ext cx="2514600" cy="533520"/>
          </a:xfrm>
          <a:prstGeom prst="wedgeRectCallout">
            <a:avLst>
              <a:gd name="adj1" fmla="val -13449"/>
              <a:gd name="adj2" fmla="val -148513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This is S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6400800" y="5638680"/>
            <a:ext cx="2438280" cy="533520"/>
          </a:xfrm>
          <a:prstGeom prst="wedgeRectCallout">
            <a:avLst>
              <a:gd name="adj1" fmla="val -30861"/>
              <a:gd name="adj2" fmla="val -121726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This is J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304920" y="5562720"/>
            <a:ext cx="2819160" cy="533160"/>
          </a:xfrm>
          <a:prstGeom prst="wedgeRectCallout">
            <a:avLst>
              <a:gd name="adj1" fmla="val 33898"/>
              <a:gd name="adj2" fmla="val -120537"/>
            </a:avLst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She’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6"/>
          <p:cNvSpPr/>
          <p:nvPr/>
        </p:nvSpPr>
        <p:spPr>
          <a:xfrm>
            <a:off x="5334120" y="1066680"/>
            <a:ext cx="2819160" cy="533520"/>
          </a:xfrm>
          <a:prstGeom prst="wedgeRectCallout">
            <a:avLst>
              <a:gd name="adj1" fmla="val -68467"/>
              <a:gd name="adj2" fmla="val 230652"/>
            </a:avLst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Times New Roman"/>
              </a:rPr>
              <a:t>He’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304920" y="685800"/>
            <a:ext cx="3657600" cy="1143000"/>
          </a:xfrm>
          <a:prstGeom prst="wedgeRectCallout">
            <a:avLst>
              <a:gd name="adj1" fmla="val 39495"/>
              <a:gd name="adj2" fmla="val 76805"/>
            </a:avLst>
          </a:prstGeom>
          <a:noFill/>
          <a:ln w="190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Those are Sally’s (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莎莉的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)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23880" y="5562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K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4480" y="102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981080" y="11732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8:25:47Z</dcterms:created>
  <dc:creator>xp</dc:creator>
  <dc:description/>
  <dc:language>en-US</dc:language>
  <cp:lastModifiedBy>xp</cp:lastModifiedBy>
  <dcterms:modified xsi:type="dcterms:W3CDTF">2017-09-27T08:27:54Z</dcterms:modified>
  <cp:revision>2</cp:revision>
  <dc:subject/>
  <dc:title>幻灯片 1</dc:title>
</cp:coreProperties>
</file>